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9D1-08CA-4B1F-99BF-89E03D4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55C-8AF1-4F0D-9FA6-1BF37D8B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F6C-7E30-4C5D-AD0A-CB696F5B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505-729A-4697-9B1C-E30AF958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1448-80FD-4F66-A1C9-BCF60957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7FE-C29A-4407-A898-DAF0F4A8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AF40-B069-4B4D-9673-0C1E7A2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091B-35F8-450D-9D9A-ACCA41F4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8D26-BE79-4A1B-A732-199854B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7D5D-E31F-43D0-BA41-324062C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F5AF-C0D4-4FC7-A093-B470154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A06-5C01-4DEF-974B-1384C6A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0044-8724-4059-A05F-11F974D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07C-A9B7-41A1-92C7-9CF39F2B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0132-BE22-494D-B22F-298A252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2862-766D-4C94-BBE6-00534986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FA5B-C9A7-4682-89F6-15565CFF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75FF-2A3F-443F-AD87-C2F41F82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781C-29E1-4683-AC52-D834C55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33F7-0EB9-48CD-A7FB-DA95720D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C758-8AF7-468F-948F-4D04B4B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BCB8-8D3C-45B0-838F-49260A1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D48-9B84-4CE7-B35C-1382F9B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09FD-3C64-44DD-88AA-32EDEEF4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C09F-AAE6-41CB-B9AD-74DAFE5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59AB-E541-48B8-8FD9-5392DD3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1BED8-6FBE-422D-8DBC-A303513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46EA-CF6D-4FDD-9D72-B80AC3D9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9817-289D-4DDE-A68C-B64680E1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2594-9402-41A0-A347-F81E568C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E70-CD32-483B-9173-1A07CFA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2A1-CA94-4C30-AA9A-253462BE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A77-6AC1-477D-9D82-DBA9E0E3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CBF-2D76-471C-9667-2D8940C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145-872D-43D0-9EB9-FE28B34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B9C-A3B9-4A66-B77A-9A6D34E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F8B9-D71C-42FB-85CA-A7111D616DEA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4B2-371C-4C2F-BCB0-88F146FD8DD0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210-10E3-4353-B36D-93C7E1763AED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79440" y="-1042920"/>
            <a:ext cx="6512040" cy="71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250920" y="184320"/>
            <a:ext cx="83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rebuchet MS"/>
              </a:rPr>
              <a:t>Lesson Objectiv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68360" y="1125360"/>
            <a:ext cx="8064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 how to create a Fl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Understand what makes a professiona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87280" y="3141720"/>
            <a:ext cx="6481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Business le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Newsle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Create a Fl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Business c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79640" y="260280"/>
            <a:ext cx="2879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makes a flyer effective?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10141" t="14564" r="50733" b="17512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796000" y="2133720"/>
            <a:ext cx="28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 for purp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867280" y="306864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67280" y="3573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/appropri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5867280" y="4149720"/>
            <a:ext cx="28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ize, Font colour,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3097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What is wrong with this leaflet?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33759" t="18512" r="30064" b="1161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3419640" y="836640"/>
            <a:ext cx="16570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2987640" y="6093000"/>
            <a:ext cx="208908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3348000" y="4365360"/>
            <a:ext cx="122400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7812000" y="1700280"/>
            <a:ext cx="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732720" y="184464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835280" y="549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squash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47636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lours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900000" y="4365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lours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1. Open MS Publis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2. Blank Publication, double click on full pag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3. Save file as and save into your unit1 – A04 folder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rcRect l="-192" t="-192" r="0" b="0"/>
          <a:stretch/>
        </p:blipFill>
        <p:spPr>
          <a:xfrm>
            <a:off x="1042920" y="119700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1979280" y="1268280"/>
            <a:ext cx="431640" cy="151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3203280" y="1413000"/>
            <a:ext cx="108108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5"/>
          <p:cNvSpPr/>
          <p:nvPr/>
        </p:nvSpPr>
        <p:spPr>
          <a:xfrm flipH="1">
            <a:off x="6227280" y="1052640"/>
            <a:ext cx="108108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insert text or images here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190" name="Line 10"/>
          <p:cNvSpPr/>
          <p:nvPr/>
        </p:nvSpPr>
        <p:spPr>
          <a:xfrm flipH="1">
            <a:off x="2555640" y="476280"/>
            <a:ext cx="4103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rebuchet MS"/>
              </a:rPr>
              <a:t>Creating a Flyer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rcRect l="27118" t="19491" r="27118" b="21465"/>
          <a:stretch/>
        </p:blipFill>
        <p:spPr>
          <a:xfrm>
            <a:off x="1619280" y="1125360"/>
            <a:ext cx="5616720" cy="5435640"/>
          </a:xfrm>
          <a:prstGeom prst="rect">
            <a:avLst/>
          </a:prstGeom>
          <a:ln w="0">
            <a:noFill/>
          </a:ln>
        </p:spPr>
      </p:pic>
      <p:sp>
        <p:nvSpPr>
          <p:cNvPr id="193" name="Line 9"/>
          <p:cNvSpPr/>
          <p:nvPr/>
        </p:nvSpPr>
        <p:spPr>
          <a:xfrm flipH="1">
            <a:off x="6156360" y="450864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7164360" y="3573360"/>
            <a:ext cx="180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hould already have a copy of the Find the Sun Travel logo that you can use in these doc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Provide Feedback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32480" indent="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Look at the persons flyer sitting next to you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132480" indent="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Provide </a:t>
            </a:r>
            <a:r>
              <a:rPr b="1" lang="en-US" sz="4000" spc="-1" strike="noStrike" u="sng">
                <a:solidFill>
                  <a:srgbClr val="257be3"/>
                </a:solidFill>
                <a:uFillTx/>
                <a:latin typeface="Trebuchet MS"/>
              </a:rPr>
              <a:t>constructive feedback</a:t>
            </a:r>
            <a:r>
              <a:rPr b="1" lang="en-US" sz="40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404040"/>
                </a:solidFill>
                <a:latin typeface="Trebuchet MS"/>
              </a:rPr>
              <a:t>to each other on where they could improve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1324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32480" indent="-10584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10 Min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rebuchet MS"/>
              </a:rPr>
              <a:t>Creating a Flyer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rcRect l="32401" t="45297" r="28875" b="38283"/>
          <a:stretch/>
        </p:blipFill>
        <p:spPr>
          <a:xfrm>
            <a:off x="204840" y="2276640"/>
            <a:ext cx="89391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11:33Z</dcterms:created>
  <dc:creator>Satchet</dc:creator>
  <dc:description/>
  <dc:language>en-US</dc:language>
  <cp:lastModifiedBy>ssingh</cp:lastModifiedBy>
  <dcterms:modified xsi:type="dcterms:W3CDTF">2013-03-22T09:40:14Z</dcterms:modified>
  <cp:revision>37</cp:revision>
  <dc:subject/>
  <dc:title>Computerised Vs paper-based databases  What is it that makes computerised databases much more popular than paper-based ones?</dc:title>
</cp:coreProperties>
</file>