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3006-DD53-47CB-819B-0C88F21A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F7FF-C8DD-4742-8555-E848E71C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3265-EF75-477D-8DC9-84DBD9FB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07BB-2C21-4DF2-B5B0-376C19BD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8A61-3ACC-4E4A-BE35-F627EAA6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CBB0-9AA7-4DCE-951E-C1A3727F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FBD8-1C75-4F51-A55C-AD5B26D2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B560-572A-4D58-BB4D-AEE1B2A8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CF4A-98CD-4476-B73B-449C7596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F0DA-86C4-4A66-9689-4610308F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C1F5-46F5-49F2-A7C5-238AC1BB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B133-7B90-4C25-92E9-52AD580B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CDC3-26BB-4F93-ADB9-07B84BD8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6338-8279-4CD9-8588-AC58FAE6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5066-98CF-4AFC-ADCD-D3AD27DD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681C-A458-438A-B0CE-B053E0D6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DB26-3571-4029-BAFE-5DB2F20F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A7837-B501-4C5B-8A55-E700DCEC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5327A-6556-41DA-868F-D46C02F4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3653E-9621-42A1-92DF-D2EB2751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696D3-AC1D-46CD-A7EE-642EE0FB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2F39F-92D0-4DB0-85DF-4322ACF7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62F-FF4D-4095-92B3-7ED7BC13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49A32-B62D-4688-A6A2-A9F7C1DF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B1CBF-A94A-4FB6-B9F3-D8F58A1E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29316-9DBF-4107-928C-D0CDB1AE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6BC76-774B-4D25-A9FB-539FF3DD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B64ED-FD9E-4690-AEA1-95B7909B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FFCB7-E5C1-460B-84DA-1602EEB8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AFEC4-2D09-4030-99DD-8F821AB2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99AC-B23B-42D3-890C-41FCF799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831A-31D1-41B7-8BB6-B48DEC77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B99A-68C2-4A90-B7C4-DF677105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8EB2-A5C7-4F94-B7A4-FFEE3B3B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0FAD-7F46-48BB-BA5A-65515964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583E-3A8A-4BAF-8D3C-96F02705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38AE-D3B1-4FA6-B612-42E2B5258507}" type="slidenum">
              <a:rPr b="1" lang="en-GB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80B4-7707-4C9E-A985-AFF4ED7B0318}" type="slidenum">
              <a:rPr b="1" lang="en-GB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A228-3FD9-4FCD-9B13-5D177DC06D8B}" type="slidenum">
              <a:rPr b="1" lang="en-GB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itle 1" descr=""/>
          <p:cNvPicPr/>
          <p:nvPr/>
        </p:nvPicPr>
        <p:blipFill>
          <a:blip r:embed="rId1"/>
          <a:stretch/>
        </p:blipFill>
        <p:spPr>
          <a:xfrm>
            <a:off x="1279440" y="-1042920"/>
            <a:ext cx="6512040" cy="71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5"/>
          <p:cNvSpPr/>
          <p:nvPr/>
        </p:nvSpPr>
        <p:spPr>
          <a:xfrm>
            <a:off x="250920" y="184320"/>
            <a:ext cx="835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Trebuchet MS"/>
              </a:rPr>
              <a:t>Lesson Objectiv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468360" y="1125360"/>
            <a:ext cx="80643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ar how to create a Fl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Understand what makes a professional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187280" y="3141720"/>
            <a:ext cx="6481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257b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257be3"/>
                </a:solidFill>
                <a:latin typeface="Comic Sans MS"/>
              </a:rPr>
              <a:t>Business le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257b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257be3"/>
                </a:solidFill>
                <a:latin typeface="Comic Sans MS"/>
              </a:rPr>
              <a:t>Newsle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257b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257be3"/>
                </a:solidFill>
                <a:latin typeface="Comic Sans MS"/>
              </a:rPr>
              <a:t>Create a Fl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257b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257be3"/>
                </a:solidFill>
                <a:latin typeface="Comic Sans MS"/>
              </a:rPr>
              <a:t>Business car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579640" y="260280"/>
            <a:ext cx="28796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What makes a flyer effective?</a:t>
            </a:r>
            <a:endParaRPr b="1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10141" t="14564" r="50733" b="17512"/>
          <a:stretch/>
        </p:blipFill>
        <p:spPr>
          <a:xfrm>
            <a:off x="0" y="0"/>
            <a:ext cx="52671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5796000" y="2133720"/>
            <a:ext cx="280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Aud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t for purp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867280" y="3068640"/>
            <a:ext cx="280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5867280" y="3573360"/>
            <a:ext cx="280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/appropri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5867280" y="4149720"/>
            <a:ext cx="280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 size, Font colour,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0920" y="1773000"/>
            <a:ext cx="30970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rebuchet MS"/>
              </a:rPr>
              <a:t>What is wrong with this leaflet?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33759" t="18512" r="30064" b="11611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Line 5"/>
          <p:cNvSpPr/>
          <p:nvPr/>
        </p:nvSpPr>
        <p:spPr>
          <a:xfrm flipV="1">
            <a:off x="3419640" y="836640"/>
            <a:ext cx="1657080" cy="7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6"/>
          <p:cNvSpPr/>
          <p:nvPr/>
        </p:nvSpPr>
        <p:spPr>
          <a:xfrm flipV="1">
            <a:off x="2987640" y="6093000"/>
            <a:ext cx="2089080" cy="72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"/>
          <p:cNvSpPr/>
          <p:nvPr/>
        </p:nvSpPr>
        <p:spPr>
          <a:xfrm flipV="1">
            <a:off x="3348000" y="4365360"/>
            <a:ext cx="122400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7812000" y="1700280"/>
            <a:ext cx="0" cy="115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>
            <a:off x="6732720" y="1844640"/>
            <a:ext cx="0" cy="172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1835280" y="54936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squashed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1476360" y="5734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colours difficul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900000" y="4365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colours difficul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6840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1. Open MS Publishe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2. Blank Publication, double click on full pag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3. Save file as and save into your unit1 – A04 folder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4" name="Picture 8" descr=""/>
          <p:cNvPicPr/>
          <p:nvPr/>
        </p:nvPicPr>
        <p:blipFill>
          <a:blip r:embed="rId1"/>
          <a:srcRect l="-192" t="-192" r="0" b="0"/>
          <a:stretch/>
        </p:blipFill>
        <p:spPr>
          <a:xfrm>
            <a:off x="1042920" y="1197000"/>
            <a:ext cx="7201080" cy="5400720"/>
          </a:xfrm>
          <a:prstGeom prst="rect">
            <a:avLst/>
          </a:prstGeom>
          <a:ln w="0">
            <a:noFill/>
          </a:ln>
        </p:spPr>
      </p:pic>
      <p:sp>
        <p:nvSpPr>
          <p:cNvPr id="185" name="Line 9"/>
          <p:cNvSpPr/>
          <p:nvPr/>
        </p:nvSpPr>
        <p:spPr>
          <a:xfrm flipH="1">
            <a:off x="1979280" y="1268280"/>
            <a:ext cx="431640" cy="1513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 flipH="1">
            <a:off x="3203280" y="1413000"/>
            <a:ext cx="1081080" cy="122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Line 5"/>
          <p:cNvSpPr/>
          <p:nvPr/>
        </p:nvSpPr>
        <p:spPr>
          <a:xfrm flipH="1">
            <a:off x="6227280" y="1052640"/>
            <a:ext cx="108108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 algn="ctr"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insert text or images here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9" name="Picture 9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993080" cy="5996160"/>
          </a:xfrm>
          <a:prstGeom prst="rect">
            <a:avLst/>
          </a:prstGeom>
          <a:ln w="0">
            <a:noFill/>
          </a:ln>
        </p:spPr>
      </p:pic>
      <p:sp>
        <p:nvSpPr>
          <p:cNvPr id="190" name="Line 10"/>
          <p:cNvSpPr/>
          <p:nvPr/>
        </p:nvSpPr>
        <p:spPr>
          <a:xfrm flipH="1">
            <a:off x="2555640" y="476280"/>
            <a:ext cx="410364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Trebuchet MS"/>
              </a:rPr>
              <a:t>Creating a Flyer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Picture 8" descr=""/>
          <p:cNvPicPr/>
          <p:nvPr/>
        </p:nvPicPr>
        <p:blipFill>
          <a:blip r:embed="rId1"/>
          <a:srcRect l="27118" t="19491" r="27118" b="21465"/>
          <a:stretch/>
        </p:blipFill>
        <p:spPr>
          <a:xfrm>
            <a:off x="1619280" y="1125360"/>
            <a:ext cx="5616720" cy="5435640"/>
          </a:xfrm>
          <a:prstGeom prst="rect">
            <a:avLst/>
          </a:prstGeom>
          <a:ln w="0">
            <a:noFill/>
          </a:ln>
        </p:spPr>
      </p:pic>
      <p:sp>
        <p:nvSpPr>
          <p:cNvPr id="193" name="Line 9"/>
          <p:cNvSpPr/>
          <p:nvPr/>
        </p:nvSpPr>
        <p:spPr>
          <a:xfrm flipH="1">
            <a:off x="6156360" y="4508640"/>
            <a:ext cx="122400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7164360" y="3573360"/>
            <a:ext cx="1800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should already have a copy of the Find the Sun Travel logo that you can use in these docu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6511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Provide Feedback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280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32480" indent="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4000" spc="-1" strike="noStrike">
                <a:solidFill>
                  <a:srgbClr val="404040"/>
                </a:solidFill>
                <a:latin typeface="Trebuchet MS"/>
              </a:rPr>
              <a:t>Look at the persons flyer sitting next to you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132480" indent="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4000" spc="-1" strike="noStrike">
                <a:solidFill>
                  <a:srgbClr val="404040"/>
                </a:solidFill>
                <a:latin typeface="Trebuchet MS"/>
              </a:rPr>
              <a:t>Provide </a:t>
            </a:r>
            <a:r>
              <a:rPr b="1" lang="en-US" sz="4000" spc="-1" strike="noStrike" u="sng">
                <a:solidFill>
                  <a:srgbClr val="257be3"/>
                </a:solidFill>
                <a:uFillTx/>
                <a:latin typeface="Trebuchet MS"/>
              </a:rPr>
              <a:t>constructive feedback</a:t>
            </a:r>
            <a:r>
              <a:rPr b="1" lang="en-US" sz="4000" spc="-1" strike="noStrike" u="sng">
                <a:solidFill>
                  <a:srgbClr val="404040"/>
                </a:solidFill>
                <a:uFillTx/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404040"/>
                </a:solidFill>
                <a:latin typeface="Trebuchet MS"/>
              </a:rPr>
              <a:t>to each other on where they could improve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13248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132480" indent="-10584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4000" spc="-1" strike="noStrike">
                <a:solidFill>
                  <a:srgbClr val="404040"/>
                </a:solidFill>
                <a:latin typeface="Trebuchet MS"/>
              </a:rPr>
              <a:t>10 Mins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Trebuchet MS"/>
              </a:rPr>
              <a:t>Creating a Flyer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8" name="Picture 8" descr=""/>
          <p:cNvPicPr/>
          <p:nvPr/>
        </p:nvPicPr>
        <p:blipFill>
          <a:blip r:embed="rId1"/>
          <a:srcRect l="32401" t="45297" r="28875" b="38283"/>
          <a:stretch/>
        </p:blipFill>
        <p:spPr>
          <a:xfrm>
            <a:off x="204840" y="2276640"/>
            <a:ext cx="89391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2:11:33Z</dcterms:created>
  <dc:creator>Satchet</dc:creator>
  <dc:description/>
  <dc:language>en-US</dc:language>
  <cp:lastModifiedBy>ssingh</cp:lastModifiedBy>
  <dcterms:modified xsi:type="dcterms:W3CDTF">2013-03-22T09:40:14Z</dcterms:modified>
  <cp:revision>37</cp:revision>
  <dc:subject/>
  <dc:title>Computerised Vs paper-based databases  What is it that makes computerised databases much more popular than paper-based ones?</dc:title>
</cp:coreProperties>
</file>